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87AF-AB60-45EA-B623-EA64D1694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F41A-5B72-406B-8EC8-6CF3D03DD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3440-6A81-405C-92A5-968B83EDC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F509-3122-486B-BC29-E7DB55607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EB61-D578-4D5C-9446-506EA107D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EE1A-5D92-4458-989C-5F0BA775A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CA47-61FA-4E43-A77B-F0E17FC17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C933-AC6C-4909-99D9-E1C9668AA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992D-D00B-4130-A536-4E05EE0F9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EF4C-FFA9-41F0-805D-9C5C9912E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A82B-CACA-4F95-B928-9611C6046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DEB4-AF6B-4B8B-B864-24B21928D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CB234-61D5-495F-9621-7BE9AB50E524}" type="slidenum">
              <a:rPr b="0" lang="ro-R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FRUMOSU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Estetică, clasa a XII-a,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 Adrian Iorgulescu, Doina Pungă, Gheorghe Stroia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1"/>
          <p:cNvSpPr/>
          <p:nvPr/>
        </p:nvSpPr>
        <p:spPr>
          <a:xfrm>
            <a:off x="214200" y="572400"/>
            <a:ext cx="860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68000" y="907920"/>
            <a:ext cx="4390920" cy="555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Calibri"/>
              </a:rPr>
              <a:t>Categorie fundamentală a esteticii, frumosul reflectă însu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ş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Calibri"/>
              </a:rPr>
              <a:t>irile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ş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Calibri"/>
              </a:rPr>
              <a:t>i proprietă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ţ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le naturii, vie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ţ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i sociale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ş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 ale crea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ţ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ilor umane capabile să trezească în personalitatea valorificatoare stări de satisfac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ţ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e, emo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ţ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e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ş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 bucurie estetică, precum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ş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 aptitudinile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ş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 înzestrările specifice ale fiin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ţ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i omene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ş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i generatoare a sentimentelor de plăcere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ş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 admira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ţ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e. Frumosul oglindeşte deopotrivă ordinea lumii exterioare, obiective şi armonia trăirilor interioare, subiective, sociabilitatea şi individualitatea omului, îmbinând planul senzorialităţii afective cu cel al raţionalităţii lucide în efortul de a obţine o imagine globală unitară asupra condiţiei umane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e plan european, primele reflecţii asupra frumosului s-au ivit în orizontul spiritual elen. Întrebându-se „ce e frumosu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”, Platon îl aprecia ca pe un lucru folositor, potrivit scopului său, făcut cu meşteşug şi care produce o plăcere recepţionată cu ajutorul văzului şi auzului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entru el, ca şi pentru mulţi alţii, nu toate plăcerile sunt estetice, ci numai acelea care ţin de simţurile superioare, singurele apte să asigure o stare agreabilă, de desfătare spiritual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u trebuie să năzuieşti către orice plăcere, spunea Democrit, ci numai către plăcerea pentru ceea ce este frumos”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eşi de natură ideală, abstractă, plasat ca arhetip universal în zonele ideii pure, frumosul, afirma Platon, are strânse contacte cu binele, „identificându-se pretutindeni cu măsura şi proporţia”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539640" y="260280"/>
            <a:ext cx="83534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292720" y="1773360"/>
            <a:ext cx="333360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rile de existenţă ale frumosului. 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umosul natural, asigurat de existenţa elementelor primordiale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canice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zice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mice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logice. 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umosul uman, constituit di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umuseţea corpului omenesc, alcătuită în principal din elemente naturale, native, dar şi dintr-o îndelungată şlefuire civilizatoare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umuseţea sufletească, rezultat aproape integral al eforturilor de înnobilare uman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umuseţea etică a vastelor relaţii dintre oameni [...]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umuseţea ambientală a locului şi rezultatele muncii omeneşti. 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umosul artistic. Existenţa sa este asigurată […] d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ourile reflectării frumuseţii din realitate; 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acităţile demiurgice ale omului de artă care, pornind de la lumea reală, făureşte o realitate nouă.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539640" y="260280"/>
            <a:ext cx="7848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1T15:51:42Z</dcterms:created>
  <dc:creator>CNEE</dc:creator>
  <dc:description/>
  <dc:language>en-US</dc:language>
  <cp:lastModifiedBy>LiviaT</cp:lastModifiedBy>
  <dcterms:modified xsi:type="dcterms:W3CDTF">2012-03-14T12:49:49Z</dcterms:modified>
  <cp:revision>37</cp:revision>
  <dc:subject/>
  <dc:title>SALARIUL</dc:title>
</cp:coreProperties>
</file>